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9207-FAAD-46A3-9F6C-2941394E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67D-AEBF-4867-B265-015F045C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6A4-06A1-439E-90BB-245AEFE5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92C-8197-4627-BCB3-1737F198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7D6-9508-4DB9-9009-86008823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F75-3060-4190-A46A-0337EF19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8B04-2438-4576-BC6A-EC532AD7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AF3-AC82-4168-90CC-FAC2EC6B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901-1212-4E41-9EFC-370413B3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9A07-AC62-4E81-A6A0-324B6361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7DD-CFEA-4FF0-A125-01AB8EBB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891-E282-4315-934D-6746704C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3CBA-81D3-4764-B2D9-28A091B6C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gress</a:t>
            </a: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y to 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ed P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Air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e broad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Spa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nd maintain hig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– Legislative P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mpeachmen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accuse government officials of wrongdoing, put them on trial, and if necessary remove from off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pprove presidential appointmen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anyone who the President picks for a government job must be approved by the Sen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Approve the Budge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he Congress must approve the President’s plan for spending money for the upcoming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Fy2007spendingbycategory"/>
          <p:cNvPicPr/>
          <p:nvPr/>
        </p:nvPicPr>
        <p:blipFill>
          <a:blip r:embed="rId1"/>
          <a:stretch/>
        </p:blipFill>
        <p:spPr>
          <a:xfrm>
            <a:off x="4267080" y="2133720"/>
            <a:ext cx="47246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an – Contra Scand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of Congress’ important powers is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wer to investigate government action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1987-88 , Congress investigated wrongdoing by members of the Regan administ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were accused of illegally selling weapons to Iran in order to fund rebel fighters in Nicaragu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fficials were found guilty of crimes, but the President was not accused of any wrongd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5715000"/>
            <a:ext cx="40384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e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3920" y="9907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eachment starts with inves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of Representatives votes on whether to impeach, or acc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ate then holds a t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cide if the official is kicked out of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2 U.S. Presidents have been impeached, Andrew Johnson and Bill Clinton.  Neither was removed from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xecutive and judicial officials are subject to impeachment, not just the 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Andrew_Johnson_-_3a53290u"/>
          <p:cNvPicPr/>
          <p:nvPr/>
        </p:nvPicPr>
        <p:blipFill>
          <a:blip r:embed="rId1"/>
          <a:stretch/>
        </p:blipFill>
        <p:spPr>
          <a:xfrm>
            <a:off x="228600" y="1066680"/>
            <a:ext cx="2333520" cy="2849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Bill Clinton"/>
          <p:cNvPicPr/>
          <p:nvPr/>
        </p:nvPicPr>
        <p:blipFill>
          <a:blip r:embed="rId2"/>
          <a:stretch/>
        </p:blipFill>
        <p:spPr>
          <a:xfrm>
            <a:off x="2590920" y="3581280"/>
            <a:ext cx="21430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Houses, there are floor le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y with the most me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known a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jorit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y with less mem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nority pa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arty ha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leade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“whip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 is the leader’s as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y L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y leaders try and get their members to 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ontrol who gets on important committees, where much important work is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so control who speaks and what issues are dealt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itt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are several types of committees in Congr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tanding Committe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pecializes on a specific top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Subcommitte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perates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der a standing committee on a more specialized topi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Conference Committe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k out compromises between the House and Senat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when they pass different versions of the same bil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ssional I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mber of Congress can say whatever they want on the floor.  They are protected from slander s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be arrested while doing their jo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llows free debate on important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160" y="61718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856, Senator Preston Brooks of South Carolina beat Senator Charles Sumner of Massachusetts during a debate on sla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Assault on Senator Sumner, 1856.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719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ssional Accoun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are not totally above the law how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member commits a serious crime or is involved in a scandal, they can be discipl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ul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whe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er is removed from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en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disapproval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given when a member does something illegal or unethical, but not serious enough to kick them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" y="571500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ressman Jim Traficant (OH) was expelled in 2002 for corrup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James Traficant"/>
          <p:cNvPicPr/>
          <p:nvPr/>
        </p:nvPicPr>
        <p:blipFill>
          <a:blip r:embed="rId1"/>
          <a:stretch/>
        </p:blipFill>
        <p:spPr>
          <a:xfrm>
            <a:off x="685800" y="1752480"/>
            <a:ext cx="31100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gressional P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ress has 3 basic types of po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pressed Pow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o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ally listed in the 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lied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w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aken in the name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ary and proper cl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legislative Pow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wers not related to making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ed P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in 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federal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a post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 Washington,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e immigration and natur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8T02:21:03Z</dcterms:created>
  <dc:creator>Osama Agami</dc:creator>
  <dc:description/>
  <dc:language>en-US</dc:language>
  <cp:lastModifiedBy>Phillip McGinnis</cp:lastModifiedBy>
  <dcterms:modified xsi:type="dcterms:W3CDTF">2010-12-07T15:44:43Z</dcterms:modified>
  <cp:revision>19</cp:revision>
  <dc:subject/>
  <dc:title>Slide 1</dc:title>
</cp:coreProperties>
</file>